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sldImg"/>
          </p:nvPr>
        </p:nvSpPr>
        <p:spPr>
          <a:xfrm>
            <a:off x="944280" y="746280"/>
            <a:ext cx="49705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 type="ftr" idx="44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 type="sldNum" idx="45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578C-2B77-4129-B4EB-BEA0B9BB2F5E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944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5110-E0F3-489B-8A68-1F89B63B6F30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B7A0-265A-465B-800B-6752E787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252-97ED-4B9A-9FD3-2AEFEABB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EAC03-F6B4-4863-AF8D-6B279D5D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300FB-2E2F-4F49-A9E1-1DED96C6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DF5B3-F6AE-44C6-A427-F08307E2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42449-121D-46B2-A8F7-8723621B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963D9-A05A-46B3-91D6-53D94D44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80855-AB23-4CA4-ABD2-8181C8C0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32C7D-EE38-4F8D-8810-5EC58EAA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A251A-11D1-4417-BB78-BC4FAB45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5B045-9283-48B7-8159-19057FDB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31AD4-0095-43A0-A245-D8BC8EEC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7747-50B3-4CDF-912E-72EB1098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5C4E2-E2EC-47BF-B266-39B85D7E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99BE2-C9EE-4FC4-A354-2E1EA9A3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F9B6E-CCAC-41CF-BAFE-C2FFA662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A05AF-8612-4231-820C-965DE461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1A455-4A16-4970-BAB4-5CBF9B9F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6F44C-A328-46DE-A602-D3464CAD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F19C4-5A39-44D4-8BF7-CF9B2315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F9F81-46C7-4563-8748-C11FBC38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065A8-AE93-4030-B0B3-4D8A52CB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DF888-11FF-4B84-AD19-E49C33BD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C49-FE76-4F32-B8F8-CFFA997E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FF2CF-F1CC-4494-A9D5-83185284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57065-62EC-4A1B-B3A5-96826745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74F0E-EA57-4C72-AAFD-68EF1EA5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0B1A9-7A1A-4BBA-B74C-F7D37F73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04C74-9B17-436A-95D1-8FE8B6C6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154B1-DC01-4A74-8EEA-570653BF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11FA9-0849-486D-AEED-4CAD956C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EC731-8807-4106-8311-C42B41B6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8CA83-878B-4BDB-882A-EA96641E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B6843-3F97-4DAB-A308-830F9AE9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4701-FB31-4FEA-963D-461B4A8B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9A301-435E-4FEF-8F66-A10EDC7A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848C1-D401-4510-8046-F4AE5EB6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1C077-4281-4746-BC5A-9247F3AB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775FC-60F4-4F15-82C7-308978C6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E5124-69D4-4E58-97B4-AA71EF13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8B91B-162C-4E15-9F2E-1A482CB1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5F74E-E065-4A99-BF06-1B664FF8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2DF8B-E639-49AD-9C54-14C45091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87D92-6868-453A-903D-FBCD7B01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8BCC0-6AB6-48D2-8632-4F0E908A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4EAA-D81B-497A-A1AD-61943478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07332-DBE4-41C2-AD84-3AC921DB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708C2-1248-427D-BA38-B5418299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6C161-108D-4688-A5F5-791AA685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74B09-F0D3-4920-8FD2-28B56B3A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6C3AC-921C-4066-87A3-7DD95EF2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1039C-A429-422E-B6B0-7B756735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03A4A-D5FA-4FCC-8CED-DBFB4D9C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6D485-46ED-4438-9E3B-8FD4800B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00F99-9BCA-4161-BFE4-CE2BC16A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12DD5-F997-4BC9-8BED-18E0DF09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CBAD-7E2B-4011-A36B-4D5AF798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13E21-312B-40C1-844F-283538E9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E2E460-681C-443B-9AA9-6F4D2D74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8D9757-2B1C-4434-AD99-77A90527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EB4D39-7BFF-444A-B4CC-7441BC1D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042E2E-7E4B-4C06-8955-32412254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003D7-E536-40AF-B5B5-1469852D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EA0F8F-001C-4526-9C39-E64CC3B7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3D87BB-4DCE-4804-AEE6-766F9CE4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1057A7-7A92-4400-A422-AF9A9AFE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B85160-8C68-461B-BD09-B14261C4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3630-B083-4A4C-9705-6026BC6D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EB287D-B37F-4BE5-9EE6-44DDD6A0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0C718-9F39-4A8B-8981-94FBCFF5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202D5-C419-4DC7-9914-D5DBCE82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A26D81-5C6F-456F-A2C4-1F6AB1EB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2E5286-7777-477F-84A1-83CE3698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856D9E-746D-4761-A14D-94A80CF7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344E30-D3AD-4B82-A179-BA83A74D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31E286-E23E-4D76-8F00-41E9B37B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34AB6F-5459-44A9-A6CA-99615D53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3C8E-4948-46B0-85CB-226B9D35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A3EE-DA5A-43BB-8253-DD171292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99BE-BEC9-428A-9115-D916F350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8806-5824-4793-BBCB-9FE3ED03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CE13-8D6F-40BC-9C0A-AC86C769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C453-0B89-4001-B428-41DE375B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27D0-43EB-47CF-A963-BE7E7084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0382-607E-4094-8CE7-593043E3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E4A4-3DEA-4DA3-AE21-E90CD2DB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B0944-6710-40DA-9FD0-06A5AF5E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61D66-68A9-4745-86CA-4AA45ABB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A46C3-C7A4-44F4-9C23-21434C0A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667CC-A932-49C2-9652-D7084720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BAE75-814C-496A-8DB2-D996D5A5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9131-C8EB-4CEA-BF00-C3C46013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B56C5-8F0D-4227-BAD4-9BDF19EA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B44FB-F635-4828-9AC9-F8BD54B9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3A26A-D708-4BAE-BD89-053649CD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D11FB-2B5F-43E3-B991-A9474275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B95E8-AA40-450B-BAB7-026E9541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942B3-1222-4982-BBAB-D6E0BE60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B2A0F-F518-41DD-8710-4AE228D7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E0EB0-0619-49D0-8B12-368B28A6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D085A-7EC0-4ACB-A374-15FFF875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55309-8CA1-429D-ACF1-68A2B4D3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A92-9E4F-477C-BEA1-D5164EEE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67116-323D-4E21-918D-D5E492D0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CD95F-E782-4C18-82C6-4DD7DC9D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7FB66-4BEF-4A9A-9D59-C37D47AA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277D4-811E-4933-968D-05434BB0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2C6BD-C9C8-4A23-B999-AACFC6ED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6B057-718D-4D6C-A0B2-EAD2F27F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F1DD0-46AF-4834-860E-E99DB338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3242B-7F26-44D8-A7E9-E82038E2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1ABCC-588D-4FEB-8DF7-6AD48F78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38966-4CA9-4D0D-AB20-E877C89D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DEEF-8788-460A-812B-7A60034C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568CA-0A28-4D80-9D94-ED19B7A8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7080E-D1EA-4F2F-9223-AFE41FB1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62BC4-53A3-4121-A9CC-80A515FE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951E3-2EA7-465E-B09E-37873DE6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B1DE4-D890-4E41-9535-78CB748D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6E2DF-28FB-4B94-921C-79F05A29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5A1E9-A801-48D9-94E4-411174AD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49309-EABE-42BC-9005-2E0D3D3D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7E2E5-836E-4216-BF13-1A4941F6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18BBC-3DBB-4DE2-A5D2-37B32FF5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A61A-5404-4A1D-BABE-B9DE42B3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56D52-2A82-45D3-B640-FB0638A0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CC789-C52E-4C9D-BD6D-8B962A89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6C58F-7EBF-4153-9420-0EFE2B13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10A8E-E977-457F-8FBE-AE6C775F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93813-0CC4-4113-8B79-F96C5932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194EE-B332-49C9-882D-694C28AC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181ED-0AC9-494B-BDD5-3EDCAC59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32020-C801-42B2-8BE8-1B4F5A3C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74A2A-904F-4874-9C5E-5011965A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514E0-A65E-4557-9C71-1CFFFDA2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CB0-F750-4AD1-85D2-9956AA4B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DAA1B-9AC4-4407-B139-F466BBFF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E7DD0-F71E-416E-BDEB-221C0DB3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711EF-B75D-47D9-A8B4-33E6CA4F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19ED7-736B-4515-AFEC-D22A34AE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463FC-C955-4067-823D-934D7B81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AE99A-4DA2-4AF2-9D49-BA5F7240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12B48-29E9-40D2-B496-9E9E1D04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13690-4CFB-491B-A791-D9D75D90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2CB6D-550E-46D4-8639-7E05E22C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9A1C0-B7B6-4F4E-8278-F7825264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5A42-C1E7-4E76-A84D-ED404D82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F9658-34A6-44A1-AB1F-4125C236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DB115-CFD2-4913-958D-0381AEC8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64337-AD86-468A-B7CE-315BB83D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DE31D-EA9A-451C-B86E-8EFE00C4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0C8BF-A413-4079-8622-3EB0A22B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832D4-99E7-4AD8-89D8-48B6508D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AD0BC-24AB-492D-8172-5EEA8900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22736-9CD4-411F-9057-4F2B33CB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35360-4D79-468A-846D-63110E7D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D1C37-36B2-4453-821A-94C58C42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0721-C43F-4223-952E-E52FB7A2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700FA-481F-4CF0-8CF1-5D4B2277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F744C-085F-4F41-BBDB-50F4119F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E370F-B263-4DD7-84F1-D9E75159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43C57-5893-4294-B242-34D08887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416A1-2126-481E-B249-0A96989B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585E4-1901-4E61-8284-7E6D72FB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B0C66-A3A4-43BE-A372-7351911C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2C92E-3713-4AF5-A677-734BFFD6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36065-82E1-46DA-9CCB-D0AB3F5D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1CA8B-DCD2-4144-AC51-CB2D9798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A560-1882-486B-9878-06023C7864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63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9F1E-D637-4BD0-983B-4FEF92129BD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20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21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35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31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FF1A-2C3B-4140-848E-5404F788D5A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01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04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80B7-B44E-4408-81A7-61E71D707BD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093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094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6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9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100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 type="ftr" idx="3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4C5D-6706-4311-B7DC-801F251812E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1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1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1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 type="dt" idx="4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 type="ftr" idx="4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 type="sldNum" idx="4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505A-F3EA-44BF-A00E-4F8A5EDD58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8BA9-14AA-413D-BBA2-175B00B175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67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443F-551E-4394-932C-6514EB84261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2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2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3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1807-27A3-46B1-8761-0AB3111E0A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16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53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1E6E-7D88-4987-AE0F-F8CDA7046A0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97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9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500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7EAD-9D6B-4091-A99A-697AF4AE512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5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5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D56D-54CF-4F44-B0B9-38EFBEE4AFA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98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1DD2-4C59-42CE-8BC4-9C1A28BB3E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58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6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7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9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0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1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330D-C697-4CC9-9291-DA5A31FDF4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Text Box 7"/>
          <p:cNvSpPr/>
          <p:nvPr/>
        </p:nvSpPr>
        <p:spPr>
          <a:xfrm>
            <a:off x="179280" y="40464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Валеологический всеобуч для детей и родителей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как средство формирования здорового образа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Text Box 8"/>
          <p:cNvSpPr/>
          <p:nvPr/>
        </p:nvSpPr>
        <p:spPr>
          <a:xfrm>
            <a:off x="2627280" y="3933720"/>
            <a:ext cx="44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Text Box 10"/>
          <p:cNvSpPr/>
          <p:nvPr/>
        </p:nvSpPr>
        <p:spPr>
          <a:xfrm>
            <a:off x="3851280" y="4365720"/>
            <a:ext cx="529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920" indent="-22399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чтовый адрес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602234, Владимирская область, Селивановский район, д.Переложниково, ул. Молодежная д.8 кв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13"/>
          <p:cNvSpPr/>
          <p:nvPr/>
        </p:nvSpPr>
        <p:spPr>
          <a:xfrm>
            <a:off x="468360" y="1773360"/>
            <a:ext cx="84265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одель валеологического всеобуча разработа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илковой Татьяной Юрьевной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ителем начальных классов 1квалификационной категори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стаж работы – 30 лет) Переложниковской основной общеобразовательной школы Селивановского район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ладимирской област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8" name="Picture 14" descr="33"/>
          <p:cNvPicPr/>
          <p:nvPr/>
        </p:nvPicPr>
        <p:blipFill>
          <a:blip r:embed="rId1"/>
          <a:stretch/>
        </p:blipFill>
        <p:spPr>
          <a:xfrm>
            <a:off x="179280" y="3933720"/>
            <a:ext cx="36338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Text Box 8"/>
          <p:cNvSpPr/>
          <p:nvPr/>
        </p:nvSpPr>
        <p:spPr>
          <a:xfrm>
            <a:off x="826920" y="404640"/>
            <a:ext cx="813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Здоровье ребенка можно считать нормо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если он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Text Box 9"/>
          <p:cNvSpPr/>
          <p:nvPr/>
        </p:nvSpPr>
        <p:spPr>
          <a:xfrm>
            <a:off x="611280" y="170028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умеет преодолевать усталость (физический аспект здоровья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Text Box 10"/>
          <p:cNvSpPr/>
          <p:nvPr/>
        </p:nvSpPr>
        <p:spPr>
          <a:xfrm>
            <a:off x="611280" y="2852640"/>
            <a:ext cx="468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проявляет хорошие умственные способности, любознательность, воображение, самообучаемость (интеллектуальный аспект здоровья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Text Box 11"/>
          <p:cNvSpPr/>
          <p:nvPr/>
        </p:nvSpPr>
        <p:spPr>
          <a:xfrm>
            <a:off x="539640" y="458136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честен, самокритичен (нравственное здоровье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Text Box 12"/>
          <p:cNvSpPr/>
          <p:nvPr/>
        </p:nvSpPr>
        <p:spPr>
          <a:xfrm>
            <a:off x="250920" y="5373720"/>
            <a:ext cx="47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уравновешен (эмоциональный аспект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Text Box 13"/>
          <p:cNvSpPr/>
          <p:nvPr/>
        </p:nvSpPr>
        <p:spPr>
          <a:xfrm>
            <a:off x="468360" y="465300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8" name="Picture 15" descr="24"/>
          <p:cNvPicPr/>
          <p:nvPr/>
        </p:nvPicPr>
        <p:blipFill>
          <a:blip r:embed="rId1"/>
          <a:stretch/>
        </p:blipFill>
        <p:spPr>
          <a:xfrm>
            <a:off x="5148360" y="1700280"/>
            <a:ext cx="368928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9" name="Picture 6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Text Box 5"/>
          <p:cNvSpPr/>
          <p:nvPr/>
        </p:nvSpPr>
        <p:spPr>
          <a:xfrm>
            <a:off x="0" y="1773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22440" indent="-242244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ь всеобуча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оздать условия для формирования у детей потребности в здоровом образе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Text Box 6"/>
          <p:cNvSpPr/>
          <p:nvPr/>
        </p:nvSpPr>
        <p:spPr>
          <a:xfrm>
            <a:off x="1692360" y="2708280"/>
            <a:ext cx="7200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ь детей и родителей осознанному отношению к своему здоровью и здоровью окружающи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влечь родителей к непосредственному и сознательному участию в целенаправленной деятельности по оздоровлению своего организма и организма детей, по формированию у них здоровых привыче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ть валеологическое мышление у всех участников педагогического процес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ть у членов общества базовый объем экологических знаний, основ экологической культуры и потребность в поддержании благоприятной  для здоровья человека сре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Rectangle 7"/>
          <p:cNvSpPr/>
          <p:nvPr/>
        </p:nvSpPr>
        <p:spPr>
          <a:xfrm>
            <a:off x="3956400" y="403200"/>
            <a:ext cx="47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«Здоровый ребенок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хороший учени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полезный для Родины челове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Rectangle 9"/>
          <p:cNvSpPr/>
          <p:nvPr/>
        </p:nvSpPr>
        <p:spPr>
          <a:xfrm>
            <a:off x="1800" y="270828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Text Box 4"/>
          <p:cNvSpPr/>
          <p:nvPr/>
        </p:nvSpPr>
        <p:spPr>
          <a:xfrm>
            <a:off x="539640" y="18900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леологический всеобуч является составной частью школьной программы «Здоровь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Text Box 5"/>
          <p:cNvSpPr/>
          <p:nvPr/>
        </p:nvSpPr>
        <p:spPr>
          <a:xfrm>
            <a:off x="468360" y="1341360"/>
            <a:ext cx="84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Анализ здоровья учащихся школы за последние 3 года показывает, что в физическом развитии школьников Переложниковской школы не наблюдается ухудш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Text Box 18"/>
          <p:cNvSpPr/>
          <p:nvPr/>
        </p:nvSpPr>
        <p:spPr>
          <a:xfrm>
            <a:off x="539640" y="2924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02-2003уч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Text Box 20"/>
          <p:cNvSpPr/>
          <p:nvPr/>
        </p:nvSpPr>
        <p:spPr>
          <a:xfrm>
            <a:off x="468360" y="3429000"/>
            <a:ext cx="208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ий-63-83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окий-8-10,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зкий-5-6,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Text Box 29"/>
          <p:cNvSpPr/>
          <p:nvPr/>
        </p:nvSpPr>
        <p:spPr>
          <a:xfrm>
            <a:off x="3132000" y="249228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вни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Text Box 31"/>
          <p:cNvSpPr/>
          <p:nvPr/>
        </p:nvSpPr>
        <p:spPr>
          <a:xfrm>
            <a:off x="3276720" y="299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03-2004уч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Text Box 37"/>
          <p:cNvSpPr/>
          <p:nvPr/>
        </p:nvSpPr>
        <p:spPr>
          <a:xfrm>
            <a:off x="3564000" y="335772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4-85,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-10,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-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Text Box 42"/>
          <p:cNvSpPr/>
          <p:nvPr/>
        </p:nvSpPr>
        <p:spPr>
          <a:xfrm>
            <a:off x="6372360" y="292428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04-2005уч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Text Box 43"/>
          <p:cNvSpPr/>
          <p:nvPr/>
        </p:nvSpPr>
        <p:spPr>
          <a:xfrm>
            <a:off x="6659640" y="3284640"/>
            <a:ext cx="208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0-8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-8,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-4,3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Text Box 53"/>
          <p:cNvSpPr/>
          <p:nvPr/>
        </p:nvSpPr>
        <p:spPr>
          <a:xfrm>
            <a:off x="179280" y="62164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Однако выявлены заболевания органов зрения, сердечно-сосудистые заболевания, пониженный иммунит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3" name="Group 71"/>
          <p:cNvGrpSpPr/>
          <p:nvPr/>
        </p:nvGrpSpPr>
        <p:grpSpPr>
          <a:xfrm>
            <a:off x="755640" y="4653000"/>
            <a:ext cx="6842160" cy="1440000"/>
            <a:chOff x="755640" y="4653000"/>
            <a:chExt cx="6842160" cy="1440000"/>
          </a:xfrm>
        </p:grpSpPr>
        <p:grpSp>
          <p:nvGrpSpPr>
            <p:cNvPr id="1224" name="Group 47"/>
            <p:cNvGrpSpPr/>
            <p:nvPr/>
          </p:nvGrpSpPr>
          <p:grpSpPr>
            <a:xfrm>
              <a:off x="3492360" y="4653000"/>
              <a:ext cx="1441440" cy="1368360"/>
              <a:chOff x="3492360" y="4653000"/>
              <a:chExt cx="1441440" cy="1368360"/>
            </a:xfrm>
          </p:grpSpPr>
          <p:grpSp>
            <p:nvGrpSpPr>
              <p:cNvPr id="1225" name="Group 14"/>
              <p:cNvGrpSpPr/>
              <p:nvPr/>
            </p:nvGrpSpPr>
            <p:grpSpPr>
              <a:xfrm>
                <a:off x="3492360" y="4653000"/>
                <a:ext cx="1441440" cy="1368360"/>
                <a:chOff x="3492360" y="4653000"/>
                <a:chExt cx="1441440" cy="1368360"/>
              </a:xfrm>
            </p:grpSpPr>
            <p:sp>
              <p:nvSpPr>
                <p:cNvPr id="1226" name="Oval 9"/>
                <p:cNvSpPr/>
                <p:nvPr/>
              </p:nvSpPr>
              <p:spPr>
                <a:xfrm>
                  <a:off x="3492360" y="4653000"/>
                  <a:ext cx="1441440" cy="136836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11"/>
                <p:cNvSpPr/>
                <p:nvPr/>
              </p:nvSpPr>
              <p:spPr>
                <a:xfrm>
                  <a:off x="4284360" y="5300640"/>
                  <a:ext cx="647640" cy="144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12"/>
                <p:cNvSpPr/>
                <p:nvPr/>
              </p:nvSpPr>
              <p:spPr>
                <a:xfrm>
                  <a:off x="4284360" y="5300640"/>
                  <a:ext cx="503280" cy="433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3"/>
                <p:cNvSpPr/>
                <p:nvPr/>
              </p:nvSpPr>
              <p:spPr>
                <a:xfrm flipV="1">
                  <a:off x="4284360" y="4868640"/>
                  <a:ext cx="431640" cy="431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0" name="Text Box 15"/>
              <p:cNvSpPr/>
              <p:nvPr/>
            </p:nvSpPr>
            <p:spPr>
              <a:xfrm>
                <a:off x="4140000" y="4869000"/>
                <a:ext cx="71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Arial"/>
                  </a:rPr>
                  <a:t>10,5%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Text Box 16"/>
              <p:cNvSpPr/>
              <p:nvPr/>
            </p:nvSpPr>
            <p:spPr>
              <a:xfrm>
                <a:off x="4211280" y="5445000"/>
                <a:ext cx="71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Arial"/>
                  </a:rPr>
                  <a:t>4%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Text Box 17"/>
              <p:cNvSpPr/>
              <p:nvPr/>
            </p:nvSpPr>
            <p:spPr>
              <a:xfrm>
                <a:off x="3492360" y="5157720"/>
                <a:ext cx="71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Arial"/>
                  </a:rPr>
                  <a:t>85,5%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3" name="Group 60"/>
            <p:cNvGrpSpPr/>
            <p:nvPr/>
          </p:nvGrpSpPr>
          <p:grpSpPr>
            <a:xfrm>
              <a:off x="755640" y="4724280"/>
              <a:ext cx="2016000" cy="1368720"/>
              <a:chOff x="755640" y="4724280"/>
              <a:chExt cx="2016000" cy="1368720"/>
            </a:xfrm>
          </p:grpSpPr>
          <p:sp>
            <p:nvSpPr>
              <p:cNvPr id="1234" name="Oval 8"/>
              <p:cNvSpPr/>
              <p:nvPr/>
            </p:nvSpPr>
            <p:spPr>
              <a:xfrm>
                <a:off x="755640" y="4724280"/>
                <a:ext cx="1441440" cy="136872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54"/>
              <p:cNvSpPr/>
              <p:nvPr/>
            </p:nvSpPr>
            <p:spPr>
              <a:xfrm flipV="1">
                <a:off x="1476360" y="5084280"/>
                <a:ext cx="574560" cy="289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55"/>
              <p:cNvSpPr/>
              <p:nvPr/>
            </p:nvSpPr>
            <p:spPr>
              <a:xfrm>
                <a:off x="1476360" y="5373720"/>
                <a:ext cx="719280" cy="142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56"/>
              <p:cNvSpPr/>
              <p:nvPr/>
            </p:nvSpPr>
            <p:spPr>
              <a:xfrm>
                <a:off x="1476360" y="5373720"/>
                <a:ext cx="503280" cy="503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Text Box 57"/>
              <p:cNvSpPr/>
              <p:nvPr/>
            </p:nvSpPr>
            <p:spPr>
              <a:xfrm>
                <a:off x="826920" y="5229360"/>
                <a:ext cx="64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Arial"/>
                  </a:rPr>
                  <a:t>83%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Text Box 58"/>
              <p:cNvSpPr/>
              <p:nvPr/>
            </p:nvSpPr>
            <p:spPr>
              <a:xfrm>
                <a:off x="1835280" y="5589720"/>
                <a:ext cx="647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Arial"/>
                  </a:rPr>
                  <a:t>6,5%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Text Box 59"/>
              <p:cNvSpPr/>
              <p:nvPr/>
            </p:nvSpPr>
            <p:spPr>
              <a:xfrm>
                <a:off x="1979640" y="50846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Arial"/>
                  </a:rPr>
                  <a:t>10,5%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1" name="Group 70"/>
            <p:cNvGrpSpPr/>
            <p:nvPr/>
          </p:nvGrpSpPr>
          <p:grpSpPr>
            <a:xfrm>
              <a:off x="6156360" y="4724280"/>
              <a:ext cx="1441440" cy="1368360"/>
              <a:chOff x="6156360" y="4724280"/>
              <a:chExt cx="1441440" cy="1368360"/>
            </a:xfrm>
          </p:grpSpPr>
          <p:grpSp>
            <p:nvGrpSpPr>
              <p:cNvPr id="1242" name="Group 62"/>
              <p:cNvGrpSpPr/>
              <p:nvPr/>
            </p:nvGrpSpPr>
            <p:grpSpPr>
              <a:xfrm>
                <a:off x="6156360" y="4724280"/>
                <a:ext cx="1441440" cy="1368360"/>
                <a:chOff x="6156360" y="4724280"/>
                <a:chExt cx="1441440" cy="1368360"/>
              </a:xfrm>
            </p:grpSpPr>
            <p:sp>
              <p:nvSpPr>
                <p:cNvPr id="1243" name="Oval 63"/>
                <p:cNvSpPr/>
                <p:nvPr/>
              </p:nvSpPr>
              <p:spPr>
                <a:xfrm>
                  <a:off x="6156360" y="4724280"/>
                  <a:ext cx="1441440" cy="136836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" name="Line 64"/>
                <p:cNvSpPr/>
                <p:nvPr/>
              </p:nvSpPr>
              <p:spPr>
                <a:xfrm>
                  <a:off x="6948360" y="5371920"/>
                  <a:ext cx="647640" cy="144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5" name="Line 65"/>
                <p:cNvSpPr/>
                <p:nvPr/>
              </p:nvSpPr>
              <p:spPr>
                <a:xfrm>
                  <a:off x="6948360" y="5371920"/>
                  <a:ext cx="503280" cy="433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6" name="Line 66"/>
                <p:cNvSpPr/>
                <p:nvPr/>
              </p:nvSpPr>
              <p:spPr>
                <a:xfrm flipV="1">
                  <a:off x="6948360" y="4939920"/>
                  <a:ext cx="431640" cy="431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7" name="Text Box 67"/>
              <p:cNvSpPr/>
              <p:nvPr/>
            </p:nvSpPr>
            <p:spPr>
              <a:xfrm>
                <a:off x="6804000" y="4940280"/>
                <a:ext cx="71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Arial"/>
                  </a:rPr>
                  <a:t>8,7%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Text Box 68"/>
              <p:cNvSpPr/>
              <p:nvPr/>
            </p:nvSpPr>
            <p:spPr>
              <a:xfrm>
                <a:off x="6875640" y="5516640"/>
                <a:ext cx="71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Arial"/>
                  </a:rPr>
                  <a:t>4,3%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Text Box 69"/>
              <p:cNvSpPr/>
              <p:nvPr/>
            </p:nvSpPr>
            <p:spPr>
              <a:xfrm>
                <a:off x="6156360" y="5229360"/>
                <a:ext cx="71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ffff"/>
                    </a:solidFill>
                    <a:latin typeface="Arial"/>
                  </a:rPr>
                  <a:t>87%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Line 19"/>
          <p:cNvSpPr/>
          <p:nvPr/>
        </p:nvSpPr>
        <p:spPr>
          <a:xfrm flipH="1">
            <a:off x="3642840" y="1071720"/>
            <a:ext cx="1429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Text Box 5"/>
          <p:cNvSpPr/>
          <p:nvPr/>
        </p:nvSpPr>
        <p:spPr>
          <a:xfrm>
            <a:off x="1332000" y="981000"/>
            <a:ext cx="27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Text Box 6"/>
          <p:cNvSpPr/>
          <p:nvPr/>
        </p:nvSpPr>
        <p:spPr>
          <a:xfrm>
            <a:off x="1692360" y="47628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Text Box 7"/>
          <p:cNvSpPr/>
          <p:nvPr/>
        </p:nvSpPr>
        <p:spPr>
          <a:xfrm>
            <a:off x="3059280" y="476280"/>
            <a:ext cx="30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Модель всеобуч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Text Box 8"/>
          <p:cNvSpPr/>
          <p:nvPr/>
        </p:nvSpPr>
        <p:spPr>
          <a:xfrm>
            <a:off x="0" y="6429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66"/>
                </a:solidFill>
                <a:latin typeface="Arial"/>
              </a:rPr>
              <a:t>Лекторий для детей и </a:t>
            </a:r>
            <a:r>
              <a:rPr b="0" i="1" lang="ru-RU" sz="1800" spc="-1" strike="noStrike">
                <a:solidFill>
                  <a:srgbClr val="66ff66"/>
                </a:solidFill>
                <a:latin typeface="Arial"/>
              </a:rPr>
              <a:t>родителей</a:t>
            </a:r>
            <a:r>
              <a:rPr b="0" lang="ru-RU" sz="1800" spc="-1" strike="noStrike">
                <a:solidFill>
                  <a:srgbClr val="66ff66"/>
                </a:solidFill>
                <a:latin typeface="Arial"/>
              </a:rPr>
              <a:t> «Экология  здоровь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Text Box 9"/>
          <p:cNvSpPr/>
          <p:nvPr/>
        </p:nvSpPr>
        <p:spPr>
          <a:xfrm>
            <a:off x="6786720" y="64296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66"/>
                </a:solidFill>
                <a:latin typeface="Arial"/>
              </a:rPr>
              <a:t>Факультативный курс «Экологический буквар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Text Box 10"/>
          <p:cNvSpPr/>
          <p:nvPr/>
        </p:nvSpPr>
        <p:spPr>
          <a:xfrm>
            <a:off x="2143080" y="164304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66"/>
                </a:solidFill>
                <a:latin typeface="Arial"/>
              </a:rPr>
              <a:t>Летняя экспедиция «Друзья доктора Айболит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Text Box 11"/>
          <p:cNvSpPr/>
          <p:nvPr/>
        </p:nvSpPr>
        <p:spPr>
          <a:xfrm>
            <a:off x="4357800" y="164304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66"/>
                </a:solidFill>
                <a:latin typeface="Arial"/>
              </a:rPr>
              <a:t>Индивидуальная оздоровительрая работа в клубе «Помоги себе са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Text Box 13"/>
          <p:cNvSpPr/>
          <p:nvPr/>
        </p:nvSpPr>
        <p:spPr>
          <a:xfrm>
            <a:off x="324000" y="3573360"/>
            <a:ext cx="44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ети младшего школьного возрас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родители 1-4клас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Text Box 14"/>
          <p:cNvSpPr/>
          <p:nvPr/>
        </p:nvSpPr>
        <p:spPr>
          <a:xfrm>
            <a:off x="179280" y="5229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оки реализации всеобуча: 2005-2010г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0" name="Picture 16" descr="23"/>
          <p:cNvPicPr/>
          <p:nvPr/>
        </p:nvPicPr>
        <p:blipFill>
          <a:blip r:embed="rId1"/>
          <a:stretch/>
        </p:blipFill>
        <p:spPr>
          <a:xfrm>
            <a:off x="5508720" y="2681280"/>
            <a:ext cx="3240000" cy="4176720"/>
          </a:xfrm>
          <a:prstGeom prst="rect">
            <a:avLst/>
          </a:prstGeom>
          <a:ln w="0">
            <a:noFill/>
          </a:ln>
        </p:spPr>
      </p:pic>
      <p:sp>
        <p:nvSpPr>
          <p:cNvPr id="1261" name="Line 17"/>
          <p:cNvSpPr/>
          <p:nvPr/>
        </p:nvSpPr>
        <p:spPr>
          <a:xfrm>
            <a:off x="6215040" y="857160"/>
            <a:ext cx="792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Line 18"/>
          <p:cNvSpPr/>
          <p:nvPr/>
        </p:nvSpPr>
        <p:spPr>
          <a:xfrm flipH="1">
            <a:off x="2484000" y="836640"/>
            <a:ext cx="57636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Line 20"/>
          <p:cNvSpPr/>
          <p:nvPr/>
        </p:nvSpPr>
        <p:spPr>
          <a:xfrm>
            <a:off x="5214960" y="928800"/>
            <a:ext cx="144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Rectangle 21"/>
          <p:cNvSpPr/>
          <p:nvPr/>
        </p:nvSpPr>
        <p:spPr>
          <a:xfrm>
            <a:off x="683280" y="2900520"/>
            <a:ext cx="26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Объекты всеобуч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Text Box 4"/>
          <p:cNvSpPr/>
          <p:nvPr/>
        </p:nvSpPr>
        <p:spPr>
          <a:xfrm>
            <a:off x="755640" y="4762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кторий для детей и родителей «Экология здоровь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Text Box 5"/>
          <p:cNvSpPr/>
          <p:nvPr/>
        </p:nvSpPr>
        <p:spPr>
          <a:xfrm>
            <a:off x="790560" y="1413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Перспективное планирование лекционных занятий с детьми и родител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 Box 7"/>
          <p:cNvSpPr/>
          <p:nvPr/>
        </p:nvSpPr>
        <p:spPr>
          <a:xfrm>
            <a:off x="826920" y="249228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Цикл занятий «Доктор Природ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 Box 8"/>
          <p:cNvSpPr/>
          <p:nvPr/>
        </p:nvSpPr>
        <p:spPr>
          <a:xfrm>
            <a:off x="826920" y="321300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Уроки трудового обучения по теме «Проектирование детской площадки в нашей деревне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 Box 9"/>
          <p:cNvSpPr/>
          <p:nvPr/>
        </p:nvSpPr>
        <p:spPr>
          <a:xfrm>
            <a:off x="826920" y="443700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Совместные творческие дела (походы, прогулки, поездки, дни Здоровь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Text Box 10"/>
          <p:cNvSpPr/>
          <p:nvPr/>
        </p:nvSpPr>
        <p:spPr>
          <a:xfrm>
            <a:off x="900000" y="5661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Практические занятия по оздоровлению организ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1" name="Picture 11" descr="25"/>
          <p:cNvPicPr/>
          <p:nvPr/>
        </p:nvPicPr>
        <p:blipFill>
          <a:blip r:embed="rId1"/>
          <a:stretch/>
        </p:blipFill>
        <p:spPr>
          <a:xfrm>
            <a:off x="4932360" y="3933720"/>
            <a:ext cx="3909960" cy="26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4"/>
          <p:cNvSpPr/>
          <p:nvPr/>
        </p:nvSpPr>
        <p:spPr>
          <a:xfrm>
            <a:off x="684360" y="260280"/>
            <a:ext cx="7416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Экспедиц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«Друзья доктора Айболита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(летняя оздоровительная работ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Text Box 5"/>
          <p:cNvSpPr/>
          <p:nvPr/>
        </p:nvSpPr>
        <p:spPr>
          <a:xfrm>
            <a:off x="684360" y="2421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1. Уроки здоров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Text Box 8"/>
          <p:cNvSpPr/>
          <p:nvPr/>
        </p:nvSpPr>
        <p:spPr>
          <a:xfrm>
            <a:off x="5256360" y="501336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3. Закаливание детей «Тропинки здоровь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5" name="Picture 10" descr="21"/>
          <p:cNvPicPr/>
          <p:nvPr/>
        </p:nvPicPr>
        <p:blipFill>
          <a:blip r:embed="rId1"/>
          <a:stretch/>
        </p:blipFill>
        <p:spPr>
          <a:xfrm>
            <a:off x="250920" y="2997360"/>
            <a:ext cx="4643280" cy="36162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7"/>
          <p:cNvSpPr/>
          <p:nvPr/>
        </p:nvSpPr>
        <p:spPr>
          <a:xfrm>
            <a:off x="4319640" y="292428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2. Путешествия по город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Здоровейску (цикл сценариев и материалов для проведения утренников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Text Box 4"/>
          <p:cNvSpPr/>
          <p:nvPr/>
        </p:nvSpPr>
        <p:spPr>
          <a:xfrm>
            <a:off x="611280" y="18900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Факультативный курс «Экологический  букварь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Text Box 5"/>
          <p:cNvSpPr/>
          <p:nvPr/>
        </p:nvSpPr>
        <p:spPr>
          <a:xfrm>
            <a:off x="2050920" y="155736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кологическая  игра «Земля - наш до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Text Box 6"/>
          <p:cNvSpPr/>
          <p:nvPr/>
        </p:nvSpPr>
        <p:spPr>
          <a:xfrm>
            <a:off x="971640" y="1989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Заседания КОА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Text Box 7"/>
          <p:cNvSpPr/>
          <p:nvPr/>
        </p:nvSpPr>
        <p:spPr>
          <a:xfrm>
            <a:off x="468360" y="2924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Text Box 8"/>
          <p:cNvSpPr/>
          <p:nvPr/>
        </p:nvSpPr>
        <p:spPr>
          <a:xfrm>
            <a:off x="0" y="249228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утешествия с Лесовичком по временам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Text Box 9"/>
          <p:cNvSpPr/>
          <p:nvPr/>
        </p:nvSpPr>
        <p:spPr>
          <a:xfrm>
            <a:off x="0" y="364500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кскурсии «Трава у дома твоего» и создание гербария «Знакомые незнакомц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Text Box 10"/>
          <p:cNvSpPr/>
          <p:nvPr/>
        </p:nvSpPr>
        <p:spPr>
          <a:xfrm>
            <a:off x="0" y="4869000"/>
            <a:ext cx="31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здание рукописной Красной книги Владимирской обл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Text Box 13"/>
          <p:cNvSpPr/>
          <p:nvPr/>
        </p:nvSpPr>
        <p:spPr>
          <a:xfrm>
            <a:off x="5435640" y="206064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Занятия «Наши любимцы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Text Box 14"/>
          <p:cNvSpPr/>
          <p:nvPr/>
        </p:nvSpPr>
        <p:spPr>
          <a:xfrm>
            <a:off x="5724360" y="2637000"/>
            <a:ext cx="34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здание альбомов «Животный и растительный мир в филателии», «Жили-были динозавр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Text Box 15"/>
          <p:cNvSpPr/>
          <p:nvPr/>
        </p:nvSpPr>
        <p:spPr>
          <a:xfrm>
            <a:off x="5867280" y="44370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8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ыпуск «Лесной газет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Text Box 16"/>
          <p:cNvSpPr/>
          <p:nvPr/>
        </p:nvSpPr>
        <p:spPr>
          <a:xfrm>
            <a:off x="5940360" y="537372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ерация «Делать добро спеш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8" name="Picture 17" descr="19"/>
          <p:cNvPicPr/>
          <p:nvPr/>
        </p:nvPicPr>
        <p:blipFill>
          <a:blip r:embed="rId1"/>
          <a:stretch/>
        </p:blipFill>
        <p:spPr>
          <a:xfrm>
            <a:off x="3203640" y="2492280"/>
            <a:ext cx="2448000" cy="35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Text Box 4"/>
          <p:cNvSpPr/>
          <p:nvPr/>
        </p:nvSpPr>
        <p:spPr>
          <a:xfrm>
            <a:off x="179280" y="333360"/>
            <a:ext cx="81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дивидуальная оздоровительная работа в клубе   «Помоги себе сам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Text Box 19"/>
          <p:cNvSpPr/>
          <p:nvPr/>
        </p:nvSpPr>
        <p:spPr>
          <a:xfrm>
            <a:off x="0" y="4437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Text Box 27"/>
          <p:cNvSpPr/>
          <p:nvPr/>
        </p:nvSpPr>
        <p:spPr>
          <a:xfrm>
            <a:off x="179280" y="3068640"/>
            <a:ext cx="12457080" cy="9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Rectangle 31"/>
          <p:cNvSpPr/>
          <p:nvPr/>
        </p:nvSpPr>
        <p:spPr>
          <a:xfrm>
            <a:off x="179280" y="5421240"/>
            <a:ext cx="84250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«В нашем распоряжении девять врачей, данных природой, всегда готовых помочь в создании стопроцентного здоровья. Это: солнечный свет, свежий воздух, чистая вода, естественное питание, физические упражнения, отдых, хорошая осанка, разум.»   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П.С.Брег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Text Box 8"/>
          <p:cNvSpPr/>
          <p:nvPr/>
        </p:nvSpPr>
        <p:spPr>
          <a:xfrm>
            <a:off x="1042920" y="1628640"/>
            <a:ext cx="4969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мнастика «Маленьких волшебников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овые упражнения «Лечимся сами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омотерап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алив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4" name="Group 36"/>
          <p:cNvGrpSpPr/>
          <p:nvPr/>
        </p:nvGrpSpPr>
        <p:grpSpPr>
          <a:xfrm>
            <a:off x="174240" y="3284640"/>
            <a:ext cx="6844320" cy="2246760"/>
            <a:chOff x="174240" y="3284640"/>
            <a:chExt cx="6844320" cy="2246760"/>
          </a:xfrm>
        </p:grpSpPr>
        <p:sp>
          <p:nvSpPr>
            <p:cNvPr id="1295" name="Text Box 18"/>
            <p:cNvSpPr/>
            <p:nvPr/>
          </p:nvSpPr>
          <p:spPr>
            <a:xfrm>
              <a:off x="179280" y="3284640"/>
              <a:ext cx="590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4680" indent="-2746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5. Соблюдение щадящего режима детям после пропусков по болезни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Text Box 20"/>
            <p:cNvSpPr/>
            <p:nvPr/>
          </p:nvSpPr>
          <p:spPr>
            <a:xfrm>
              <a:off x="179280" y="3933720"/>
              <a:ext cx="44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6. Личная гигиена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Text Box 22"/>
            <p:cNvSpPr/>
            <p:nvPr/>
          </p:nvSpPr>
          <p:spPr>
            <a:xfrm>
              <a:off x="179280" y="4726080"/>
              <a:ext cx="399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8. Массаж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Text Box 26"/>
            <p:cNvSpPr/>
            <p:nvPr/>
          </p:nvSpPr>
          <p:spPr>
            <a:xfrm flipV="1" rot="10806000">
              <a:off x="174600" y="5157000"/>
              <a:ext cx="68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9.Мониторинг,памятки,рекомендации для детей и родителей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Text Box 32"/>
            <p:cNvSpPr/>
            <p:nvPr/>
          </p:nvSpPr>
          <p:spPr>
            <a:xfrm>
              <a:off x="179280" y="4294080"/>
              <a:ext cx="363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7. Дыхательная гимнастика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00" name="Picture 34" descr="26"/>
          <p:cNvPicPr/>
          <p:nvPr/>
        </p:nvPicPr>
        <p:blipFill>
          <a:blip r:embed="rId1"/>
          <a:stretch/>
        </p:blipFill>
        <p:spPr>
          <a:xfrm>
            <a:off x="6300720" y="1341360"/>
            <a:ext cx="25542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Text Box 4"/>
          <p:cNvSpPr/>
          <p:nvPr/>
        </p:nvSpPr>
        <p:spPr>
          <a:xfrm>
            <a:off x="324000" y="587700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доровье человека - жизненно важная ценность, оно складывается из многих взаимосвязанных друг с другом компон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Text Box 5"/>
          <p:cNvSpPr/>
          <p:nvPr/>
        </p:nvSpPr>
        <p:spPr>
          <a:xfrm>
            <a:off x="1908000" y="3645000"/>
            <a:ext cx="43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Text Box 9"/>
          <p:cNvSpPr/>
          <p:nvPr/>
        </p:nvSpPr>
        <p:spPr>
          <a:xfrm>
            <a:off x="468360" y="1628640"/>
            <a:ext cx="1728720" cy="39888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Text Box 10"/>
          <p:cNvSpPr/>
          <p:nvPr/>
        </p:nvSpPr>
        <p:spPr>
          <a:xfrm>
            <a:off x="2700360" y="1413000"/>
            <a:ext cx="3024000" cy="70380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истота тела, жилища, продуктов пит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Text Box 11"/>
          <p:cNvSpPr/>
          <p:nvPr/>
        </p:nvSpPr>
        <p:spPr>
          <a:xfrm>
            <a:off x="6227640" y="1628640"/>
            <a:ext cx="2376720" cy="39888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ор одеж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Text Box 12"/>
          <p:cNvSpPr/>
          <p:nvPr/>
        </p:nvSpPr>
        <p:spPr>
          <a:xfrm>
            <a:off x="3059280" y="3068640"/>
            <a:ext cx="2663640" cy="64260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Здоровь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Text Box 13"/>
          <p:cNvSpPr/>
          <p:nvPr/>
        </p:nvSpPr>
        <p:spPr>
          <a:xfrm>
            <a:off x="3276720" y="4724280"/>
            <a:ext cx="2160360" cy="70380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ожительные эмо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Text Box 14"/>
          <p:cNvSpPr/>
          <p:nvPr/>
        </p:nvSpPr>
        <p:spPr>
          <a:xfrm>
            <a:off x="395280" y="4149720"/>
            <a:ext cx="2448000" cy="70380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аливание и оздоров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Text Box 16"/>
          <p:cNvSpPr/>
          <p:nvPr/>
        </p:nvSpPr>
        <p:spPr>
          <a:xfrm>
            <a:off x="6084720" y="4005360"/>
            <a:ext cx="2374920" cy="70380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аз от вредных привыч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Text Box 17"/>
          <p:cNvSpPr/>
          <p:nvPr/>
        </p:nvSpPr>
        <p:spPr>
          <a:xfrm>
            <a:off x="179280" y="3068640"/>
            <a:ext cx="2232000" cy="39888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ви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Text Box 19"/>
          <p:cNvSpPr/>
          <p:nvPr/>
        </p:nvSpPr>
        <p:spPr>
          <a:xfrm>
            <a:off x="5164200" y="4067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Text Box 20"/>
          <p:cNvSpPr/>
          <p:nvPr/>
        </p:nvSpPr>
        <p:spPr>
          <a:xfrm>
            <a:off x="6156360" y="2924280"/>
            <a:ext cx="2521080" cy="70380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циональное пит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Text Box 21"/>
          <p:cNvSpPr/>
          <p:nvPr/>
        </p:nvSpPr>
        <p:spPr>
          <a:xfrm>
            <a:off x="1187280" y="62064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омпоненты здоров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Line 23"/>
          <p:cNvSpPr/>
          <p:nvPr/>
        </p:nvSpPr>
        <p:spPr>
          <a:xfrm flipV="1">
            <a:off x="4211640" y="220464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Line 24"/>
          <p:cNvSpPr/>
          <p:nvPr/>
        </p:nvSpPr>
        <p:spPr>
          <a:xfrm flipV="1">
            <a:off x="5724360" y="2060640"/>
            <a:ext cx="64800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Line 25"/>
          <p:cNvSpPr/>
          <p:nvPr/>
        </p:nvSpPr>
        <p:spPr>
          <a:xfrm>
            <a:off x="5724360" y="3429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Line 26"/>
          <p:cNvSpPr/>
          <p:nvPr/>
        </p:nvSpPr>
        <p:spPr>
          <a:xfrm>
            <a:off x="5724360" y="3716280"/>
            <a:ext cx="36036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Line 27"/>
          <p:cNvSpPr/>
          <p:nvPr/>
        </p:nvSpPr>
        <p:spPr>
          <a:xfrm>
            <a:off x="4211640" y="371628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Line 28"/>
          <p:cNvSpPr/>
          <p:nvPr/>
        </p:nvSpPr>
        <p:spPr>
          <a:xfrm flipH="1">
            <a:off x="2340000" y="3716280"/>
            <a:ext cx="71928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Line 29"/>
          <p:cNvSpPr/>
          <p:nvPr/>
        </p:nvSpPr>
        <p:spPr>
          <a:xfrm flipH="1">
            <a:off x="2411280" y="328464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Line 30"/>
          <p:cNvSpPr/>
          <p:nvPr/>
        </p:nvSpPr>
        <p:spPr>
          <a:xfrm flipH="1" flipV="1">
            <a:off x="1835280" y="2060640"/>
            <a:ext cx="122400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06:28:35Z</dcterms:created>
  <dc:creator>student</dc:creator>
  <dc:description/>
  <dc:language>en-US</dc:language>
  <cp:lastModifiedBy>Исаева</cp:lastModifiedBy>
  <dcterms:modified xsi:type="dcterms:W3CDTF">2007-12-23T21:13:44Z</dcterms:modified>
  <cp:revision>45</cp:revision>
  <dc:subject/>
  <dc:title>Слайд 1</dc:title>
</cp:coreProperties>
</file>